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666-9FEA-4C81-8018-F3D134959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C4DD-E4D6-4E62-A954-81152884E9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F0E-16B1-443F-BC62-5990AD3B1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85A-8F58-4EFC-ADBE-6C8E04A776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A34B-B19C-4A16-868B-115836ABC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6E0-38EA-41EF-8DFB-6EE3538C36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636-F178-49EC-9482-6ECC0EB0E2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014-B862-4C70-8E60-C2EA5A23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6B5-18BE-4B90-BD15-1DCF6AF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1B0-1B68-458C-8522-65F016D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442-D4B3-4AE0-9BEF-0CA48E63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A1EE-EC71-45FB-A24E-CA6C1E48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1F26-8C0B-4E35-8104-19D4DC1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0FC-6EE1-49C2-BCFA-A4281EA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610-0F12-4A71-B83D-E1917383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FF8E-3B37-47FA-AF62-4F38876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4E5C-7CF0-4691-8AB1-F6A181E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870-5BCE-458E-A628-3411E7A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C11-10B5-4276-8535-C94B58D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BEC0-CBF5-47F2-986E-59CF212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E781-698E-4B51-BFF4-646D2BC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FB93-CEDC-4671-BBA0-5098A28B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832F-43EA-4E5E-8868-E8361F65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495-04C5-4D65-B6C7-723D4DA0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8557-EBB0-478F-940F-F2260728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84A9-DDF6-45FB-A94E-153594A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AE62-1187-4BE7-A0E8-562C257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ECC99-2A58-45C4-9E10-C8C431B3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0F80-9CE9-4A1F-A765-9F89BBED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8E1-6331-4A9F-99B0-7FD16F6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9F17-10E9-47BE-AD8B-52B6745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96BF-815A-4F0D-A3D7-EB93761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20F8-2D3A-4AC8-B249-73D0045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B6BB-083F-4ACC-90D7-0639C2E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584D-FB58-40E4-934C-C2FF458F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9DE4-92A0-4F2D-B758-52377AD4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3AA1-CD4D-494A-A836-E1FB2D49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0AA7-1B1D-4C9D-870B-9CC193CC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C2D9-DFC9-48E2-AB4F-3D0B101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CAC3-C2C6-45E4-9A5A-10B03F78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986-116C-43D5-96D7-28025A5C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1684-5ED8-40A1-B50E-AAC5B16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027C-751F-44B2-BAE5-6FED07E7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DD52B-3381-46CB-9F69-F1C1742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4BE2-1982-428C-8F10-EABD05C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DDFC-4ACD-4EA2-8516-2E3D77A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FDBC-21E9-436C-B75F-9C046A2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FE34-42CF-4A9C-A9D9-51DB2CF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7580-59A8-4FC0-82A8-3F8842B8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470CA-82C8-4B25-871C-0CC4CB15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C551-DB01-4D93-B2BA-F86DE3E5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990-961D-470D-BFD6-68814E2E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4ACE-7FB4-4636-9A4B-11CA293C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AC04-7FA4-4EF7-BCF5-173E463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3C2B-A99D-4CDE-BAC1-8E2D4CDD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A6E8-9354-401B-94EA-D62AA603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6E3E-ACCA-44C3-98F0-DD37847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FCE0-9012-416B-861E-0A3AEE38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1902-4E9B-42B6-B68D-75EE3C5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2C898-9AF1-4061-89B5-9BF541B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13A5-15F6-4593-90CF-F4883AD6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6766-1969-48EA-9AA2-6A737A5C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587-0A18-4B4C-AAB9-A7BA59C4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36AF-DA79-4516-BFAE-75689597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BCAE-2FFB-49A5-AA41-1046184D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2012-020D-4674-A280-CCD1CA1D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7349-56C0-4192-9495-FF0297FF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CE67-9A86-40E0-A496-54ADA29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5B83-5ACF-4E32-AE5F-B5C6A4D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B10A-56D7-44AE-85C8-BA2ABF7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B504-1066-44F9-A4CC-CF3BD27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8500A-B9D1-4F8B-B201-4EECF33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52FB-8C7A-44C1-A7C0-D1A3E54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D83-03EE-4EA7-85A4-00EF4F9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0530-2C8C-4270-87F1-4C3BD63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A8BB-B058-48B0-90EC-70995CAF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D695-D208-47BF-8EF1-FB461352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DF128-D3AC-4089-8EA7-AA74100D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FE52-2D94-4C29-A29F-38C8B450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0F11-5F56-408F-A6A2-9EC5A2CC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5D7BC-E0B6-4513-9878-0BE1A1F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FFE4-A098-421B-AAF1-44018BB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227BC-2BDF-4765-9F31-D9D2285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1558-2C82-4866-AC1D-2360C85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243-76E0-49B1-ACFE-4EB8236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9838-7364-4C31-BCBF-E3CF03F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C313-B023-4AD6-865B-2C0DED1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6AC2-3CB9-4721-99AC-E3F3658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6790-C328-4F99-BFC9-92478633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B3D0-3B28-4D9B-BDC9-1881B1B9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91754-7D97-4671-9E01-64A88C9F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1B291-08F2-4F78-A2DB-8286B1A0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AD71-317C-4DDB-946E-BC438C81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B0C0-9628-461C-B3AE-69619A1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9F65A-0718-410D-9B80-1602B192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A4F-6875-4E7B-9D41-577EF04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4F41-FF6C-4230-9989-E0147DC2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7B69-2C95-481D-A3C5-32C7C3E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7E621-9F3F-43B9-BD52-98A1A1A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813A-BB2F-407E-89EB-AC1CE8E3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CF74F-EF23-4CDB-884C-06E98B2B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C4E7-8EDC-4473-863C-84C9B813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33CD0-7C56-413B-927C-E2C21C5B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BC9-4810-4B5B-A4CF-F51414D8E4E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E3A8-473E-477B-A561-5A9E3EB6D13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0EF4-35AA-4996-A099-045D0518D1E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B524-493D-4F8C-8075-D42BD9F4FB8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146-F435-4F3A-9C8E-F732D89082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ED6-D5B5-47AB-86A6-F6FA53F7B9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1A57-2944-42EA-925E-0B8D40E62F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6E6D-6905-4FAA-895A-0C2A388CA2A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2286000" y="2071800"/>
            <a:ext cx="60008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рок русского язы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3071880" y="507204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ГУ СОШ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Есекенова Салтанат Балаб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о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е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Облако 5"/>
          <p:cNvGrpSpPr/>
          <p:nvPr/>
        </p:nvGrpSpPr>
        <p:grpSpPr>
          <a:xfrm>
            <a:off x="4224240" y="1468440"/>
            <a:ext cx="976320" cy="1335240"/>
            <a:chOff x="4224240" y="1468440"/>
            <a:chExt cx="976320" cy="1335240"/>
          </a:xfrm>
        </p:grpSpPr>
        <p:pic>
          <p:nvPicPr>
            <p:cNvPr id="383" name="Облако 5" descr=""/>
            <p:cNvPicPr/>
            <p:nvPr/>
          </p:nvPicPr>
          <p:blipFill>
            <a:blip r:embed="rId2"/>
            <a:stretch/>
          </p:blipFill>
          <p:spPr>
            <a:xfrm>
              <a:off x="4224240" y="146844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03880" y="168444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Облако 7"/>
          <p:cNvGrpSpPr/>
          <p:nvPr/>
        </p:nvGrpSpPr>
        <p:grpSpPr>
          <a:xfrm>
            <a:off x="4224240" y="4754520"/>
            <a:ext cx="976320" cy="1335240"/>
            <a:chOff x="4224240" y="4754520"/>
            <a:chExt cx="976320" cy="1335240"/>
          </a:xfrm>
        </p:grpSpPr>
        <p:pic>
          <p:nvPicPr>
            <p:cNvPr id="386" name="Облако 7" descr=""/>
            <p:cNvPicPr/>
            <p:nvPr/>
          </p:nvPicPr>
          <p:blipFill>
            <a:blip r:embed="rId3"/>
            <a:stretch/>
          </p:blipFill>
          <p:spPr>
            <a:xfrm>
              <a:off x="4224240" y="475452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03880" y="497052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блако 8"/>
          <p:cNvGrpSpPr/>
          <p:nvPr/>
        </p:nvGrpSpPr>
        <p:grpSpPr>
          <a:xfrm>
            <a:off x="4297320" y="2682720"/>
            <a:ext cx="969840" cy="1339920"/>
            <a:chOff x="4297320" y="2682720"/>
            <a:chExt cx="969840" cy="1339920"/>
          </a:xfrm>
        </p:grpSpPr>
        <p:pic>
          <p:nvPicPr>
            <p:cNvPr id="389" name="Облако 8" descr=""/>
            <p:cNvPicPr/>
            <p:nvPr/>
          </p:nvPicPr>
          <p:blipFill>
            <a:blip r:embed="rId4"/>
            <a:stretch/>
          </p:blipFill>
          <p:spPr>
            <a:xfrm>
              <a:off x="4297320" y="2682720"/>
              <a:ext cx="9698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475160" y="2898720"/>
              <a:ext cx="5605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Облако 9"/>
          <p:cNvGrpSpPr/>
          <p:nvPr/>
        </p:nvGrpSpPr>
        <p:grpSpPr>
          <a:xfrm>
            <a:off x="4602240" y="3657600"/>
            <a:ext cx="1152360" cy="1212840"/>
            <a:chOff x="4602240" y="3657600"/>
            <a:chExt cx="1152360" cy="1212840"/>
          </a:xfrm>
        </p:grpSpPr>
        <p:pic>
          <p:nvPicPr>
            <p:cNvPr id="392" name="Облако 9" descr=""/>
            <p:cNvPicPr/>
            <p:nvPr/>
          </p:nvPicPr>
          <p:blipFill>
            <a:blip r:embed="rId5"/>
            <a:stretch/>
          </p:blipFill>
          <p:spPr>
            <a:xfrm>
              <a:off x="4602240" y="3657600"/>
              <a:ext cx="1152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723200">
              <a:off x="4874760" y="3803400"/>
              <a:ext cx="5605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я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000240" y="2000160"/>
            <a:ext cx="35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571840" y="1571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Клю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542916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4429080" y="2143080"/>
            <a:ext cx="400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Нет ошибок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1     ошибка-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2    ошибки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Больше -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278604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714760" y="4214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5286240" y="27147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00024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2786040" y="5357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0"/>
          <p:cNvSpPr/>
          <p:nvPr/>
        </p:nvSpPr>
        <p:spPr>
          <a:xfrm>
            <a:off x="2714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35788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"/>
          <p:cNvSpPr/>
          <p:nvPr/>
        </p:nvSpPr>
        <p:spPr>
          <a:xfrm>
            <a:off x="5429160" y="3429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521496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5143680" y="5357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2571840" y="1643040"/>
            <a:ext cx="5572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Распредели слова в два столб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5715000" y="2143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857680" y="33577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786040" y="2143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786040" y="4000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564372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557208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5572080" y="2786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278604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2857680" y="4572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2857680" y="52862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2643120" y="1500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6"/>
          <p:cNvSpPr/>
          <p:nvPr/>
        </p:nvSpPr>
        <p:spPr>
          <a:xfrm>
            <a:off x="2643120" y="185724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писатель, щенок, дятел, читатель, олень, ученик,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е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книга, орех, шкаф, загадка, грусть, перец,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Овал 15"/>
          <p:cNvSpPr/>
          <p:nvPr/>
        </p:nvSpPr>
        <p:spPr>
          <a:xfrm>
            <a:off x="2571840" y="16430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7"/>
          <p:cNvSpPr/>
          <p:nvPr/>
        </p:nvSpPr>
        <p:spPr>
          <a:xfrm>
            <a:off x="4929120" y="2428920"/>
            <a:ext cx="1500120" cy="71424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8"/>
          <p:cNvSpPr/>
          <p:nvPr/>
        </p:nvSpPr>
        <p:spPr>
          <a:xfrm rot="21208800">
            <a:off x="2896920" y="4016520"/>
            <a:ext cx="1571400" cy="7855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59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3"/>
          <p:cNvSpPr/>
          <p:nvPr/>
        </p:nvSpPr>
        <p:spPr>
          <a:xfrm>
            <a:off x="6786720" y="192888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4"/>
          <p:cNvSpPr/>
          <p:nvPr/>
        </p:nvSpPr>
        <p:spPr>
          <a:xfrm>
            <a:off x="3857760" y="5286240"/>
            <a:ext cx="1000080" cy="57168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5"/>
          <p:cNvSpPr/>
          <p:nvPr/>
        </p:nvSpPr>
        <p:spPr>
          <a:xfrm>
            <a:off x="5072040" y="435780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6"/>
          <p:cNvSpPr/>
          <p:nvPr/>
        </p:nvSpPr>
        <p:spPr>
          <a:xfrm>
            <a:off x="6572160" y="335772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28"/>
          <p:cNvCxnSpPr/>
          <p:nvPr/>
        </p:nvCxnSpPr>
        <p:spPr>
          <a:xfrm>
            <a:off x="4500720" y="2499840"/>
            <a:ext cx="42912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6" name="Прямая со стрелкой 29"/>
          <p:cNvCxnSpPr/>
          <p:nvPr/>
        </p:nvCxnSpPr>
        <p:spPr>
          <a:xfrm flipH="1">
            <a:off x="3499560" y="3071520"/>
            <a:ext cx="72360" cy="78660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7" name="Прямая со стрелкой 31"/>
          <p:cNvCxnSpPr/>
          <p:nvPr/>
        </p:nvCxnSpPr>
        <p:spPr>
          <a:xfrm>
            <a:off x="6214680" y="3214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8" name="Прямая со стрелкой 32"/>
          <p:cNvCxnSpPr/>
          <p:nvPr/>
        </p:nvCxnSpPr>
        <p:spPr>
          <a:xfrm>
            <a:off x="4571640" y="4357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9" name="Прямая со стрелкой 33"/>
          <p:cNvCxnSpPr/>
          <p:nvPr/>
        </p:nvCxnSpPr>
        <p:spPr>
          <a:xfrm>
            <a:off x="3929040" y="4929120"/>
            <a:ext cx="286560" cy="28656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40" name="Прямая со стрелкой 35"/>
          <p:cNvCxnSpPr/>
          <p:nvPr/>
        </p:nvCxnSpPr>
        <p:spPr>
          <a:xfrm flipV="1">
            <a:off x="6357600" y="242820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sp>
        <p:nvSpPr>
          <p:cNvPr id="441" name="TextBox 38"/>
          <p:cNvSpPr/>
          <p:nvPr/>
        </p:nvSpPr>
        <p:spPr>
          <a:xfrm>
            <a:off x="4357800" y="15717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Lucida Sans Unicode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2286000" y="2357280"/>
            <a:ext cx="60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урок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5:11Z</dcterms:created>
  <dc:creator>Oksana</dc:creator>
  <dc:description/>
  <dc:language>en-US</dc:language>
  <cp:lastModifiedBy>Дом</cp:lastModifiedBy>
  <dcterms:modified xsi:type="dcterms:W3CDTF">2014-10-16T05:12:06Z</dcterms:modified>
  <cp:revision>16</cp:revision>
  <dc:subject/>
  <dc:title>Слайд 1</dc:title>
</cp:coreProperties>
</file>